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979-C6E5-4303-88FF-D131EE6F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6B6-2771-49AC-823A-FB50D14E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3CD-6BE4-4B75-89D1-29F1EEA0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25A-7331-47DC-930F-FA242AA0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53-7F95-4300-9707-C0E7BFF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006-5032-457E-A8CC-7BE4FF18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386-0917-4465-A6F1-A8318FB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689-4A9D-4E4A-80C9-D092CD6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3A1-BE99-4794-B60B-272C290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2C4-3846-468F-A145-852F5ED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2D3-F5BC-4706-AAE4-7A6C7AB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19A-2E12-49A4-975E-46D26DA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0A37-EB33-4D0F-95FC-02B53FB4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4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4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4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3:08Z</dcterms:created>
  <dc:creator>USER</dc:creator>
  <dc:description/>
  <dc:language>en-US</dc:language>
  <cp:lastModifiedBy>USER</cp:lastModifiedBy>
  <dcterms:modified xsi:type="dcterms:W3CDTF">2002-11-01T03:53:44Z</dcterms:modified>
  <cp:revision>1</cp:revision>
  <dc:subject/>
  <dc:title>PowerPoint Presentation</dc:title>
</cp:coreProperties>
</file>